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5EFFA-4BF8-46E0-AD21-530924D29E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3696B-A3F8-4898-8268-0A380ED02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C17DF-B4B4-4653-A7CA-69DECA2D84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A38C4-1FD2-4692-BE10-8F50E5EBD3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16560-21A8-4D1C-B71C-D524DFB6C8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CD00E-1418-4477-B5DC-664A89F4C9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80C6E-AD2A-4212-8530-30224CED34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84680-C516-4CAA-AE5B-01E2A9E40B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EB3-9B89-4EBC-AE55-442A641F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EAE-DA82-4BAA-B6BD-84EA8E8E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6F1-3E88-4AE0-96F8-B948937C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C1A-C37F-4A88-B860-C7EC074F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8AC4E-5C47-46A6-BA71-EAED5E2ECE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8A490-79C9-4314-AE97-B27CB24B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705FC-4239-4707-B902-3A9B2E34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5C83E-D6BC-4483-8F9A-8E999DD3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C0A74-5BBD-43B8-91BB-97D91E2E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B3308-6A40-40FC-9C1A-01A0EE46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9F8E2-27E3-42D4-BFA3-720E813F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696-640C-49EB-B1AE-4CE23FD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B0779-8429-4195-A3E8-40DA62F0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14FB2-0D61-47CA-B4BE-FCC03C42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309FE-5987-4B90-BBA1-5D3AD1B9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A0E58-FE16-48AC-8C66-1B72F9FD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3F16B-0DC9-46DB-BE30-0CABD524B7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4CD-F9A0-4858-966D-BBADCF00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FB3-C4F2-4047-A3B1-0646F744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D44-51AA-4952-A44C-F03303F5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842-701F-4B7F-B88D-9919E5C2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08D-2384-445A-A8EB-BE7CC2A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C71-A712-4074-A41A-C919CDF4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A36-5C0A-49BF-BED5-6C8D54A6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520C9-1CC2-48F2-B3A3-8D45F67BDDE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666A4-3B69-41B7-909C-1D0FBF53D9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4609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019920"/>
            <a:ext cx="21337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618C0-3782-4779-B115-D22391A518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governmental Relations Tod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3 – Federalis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tion 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c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cramble for Federal Dolla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$460 billion in grants every ye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ant distribution follows universalism—a little something for everybod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c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andate B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dates direct states or local governments to comply with federal rules under threat of penalties or as a condition of receipt of a federal gra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funded Mand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dates for which federal government provides no mone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Clean Air Act, Americans with Disabilities Act, NCL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ttempted restriction with Unfunded Mandate Act of 199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governmental Rel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olitics of Federal Gra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ublicans generally favor fewer strings, less supervision, and the delegation of spending discretion to the state and local government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mocrats have generally been less supportive of broad discretionary block grants, instead favoring more detailed, federally supervised spending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u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ition: a system of government in which both the states and the national government remain supreme within their own spheres, each responsible for some polic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ke a layer c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rrowly interpreted powers of federal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ded in the 1930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operative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ition: a system of government in which powers and policy assignments are shared between states and the national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ke a marble c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d costs and admini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tes follow federal guideli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volution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volu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ransferring responsibility for policies from the federal government to state and local governmen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cribe how the relationship between the federal and state government changed in the 1980s, 1994, and 2000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c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efinition: the pattern of spending, taxing, and providing grants in the federal syste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Grants-in-Ai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deral funds appropriated by Congress for distribution to state and local govern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main instrument the national government uses for influencing state and local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720" y="152280"/>
            <a:ext cx="7680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tergovernmental Relations Tod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2"/>
          <a:stretch/>
        </p:blipFill>
        <p:spPr>
          <a:xfrm>
            <a:off x="1936800" y="1004760"/>
            <a:ext cx="5602320" cy="54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c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Grant System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alibri"/>
              </a:rPr>
              <a:t>Categorical Grants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: Federal grants that can be used for specific purposes; grants with strings attached (Ex: school lunch program within an education budget) ; often times given on a matching basi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Project Grants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: Funds are competitive and go towards projects within the states. (Ex: National Science Foundation grants to universities to support the work of scientists.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Formula Grants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: Usually given on the basis of need. Money given to states according to a mathematical formula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c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rant System: (con’t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Block Grant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Federal grants given to a state government to be spent within a certain policy area (ex: welfare, education), which the state can decide how to spend within that area. Given more or less automatically to support broad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ants are given to states and local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1" descr=""/>
          <p:cNvPicPr/>
          <p:nvPr/>
        </p:nvPicPr>
        <p:blipFill>
          <a:blip r:embed="rId2"/>
          <a:stretch/>
        </p:blipFill>
        <p:spPr>
          <a:xfrm>
            <a:off x="453960" y="345960"/>
            <a:ext cx="833436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4:12:46Z</dcterms:created>
  <dc:creator>Katie Madison</dc:creator>
  <dc:description/>
  <dc:language>en-US</dc:language>
  <cp:lastModifiedBy>FAdmin</cp:lastModifiedBy>
  <dcterms:modified xsi:type="dcterms:W3CDTF">2011-09-13T15:17:00Z</dcterms:modified>
  <cp:revision>5</cp:revision>
  <dc:subject/>
  <dc:title>Intergovernmental Relations Today</dc:title>
</cp:coreProperties>
</file>